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A0C-14A7-4840-8A1E-72FEF8CC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BB3-879F-445B-A3F8-FD6B13B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1E4-C136-4C18-BD4B-DED993CA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949-7616-4C5C-B8BA-9298703F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607-51AC-4BA6-98A4-57DBE85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E32-A4CE-4902-9348-770811F5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970-A330-444C-9DAB-3BF25EB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FE5-F637-4805-A1BB-FBB4EFC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8C7-D068-40C8-BEF3-277759E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D63-AB6F-4459-A150-8951E5A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54D-E6DB-4E37-90AE-7AF17F8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443-4E02-4256-AD6A-B10D340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972-32EA-4BE6-90BA-A472055E1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42:08Z</dcterms:created>
  <dc:creator>Grupo Editorial</dc:creator>
  <dc:description/>
  <dc:language>en-US</dc:language>
  <cp:lastModifiedBy>Grupo Editorial</cp:lastModifiedBy>
  <dcterms:modified xsi:type="dcterms:W3CDTF">2001-11-20T15:45:27Z</dcterms:modified>
  <cp:revision>1</cp:revision>
  <dc:subject/>
  <dc:title>Sin título de diapositiva</dc:title>
</cp:coreProperties>
</file>